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png" ContentType="image/png"/>
  <Override PartName="/ppt/media/image10.gif" ContentType="image/gif"/>
  <Override PartName="/ppt/media/image18.gif" ContentType="image/gif"/>
  <Override PartName="/ppt/media/image17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6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797-BB6D-4848-AD50-B92EA78D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6E1-5EC2-47A8-AF37-8F0EF88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AF0-8B3B-4E10-B355-DC087C54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81A-CBE2-4F14-AB5B-CECD9E99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BE5-CA7B-45B2-AF14-1FDBD77F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B8D-E079-4803-A5B1-3D4C548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AB4-BD19-44F8-B7E7-83FD31AC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606-A0A8-4E5F-9FEC-B66227B0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56040"/>
            <a:ext cx="6865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D53-0D7D-4057-A1BD-EDA2A77F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724-B19A-4D85-A2CE-ACCF0232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CB7-1AD2-4603-8A7B-A1C95902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364-E2E4-4BB9-AA9B-C608EB1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388537-6C06-439C-A490-42EC1BADB4AA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2040" y="2592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748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0920" cy="1242720"/>
            <a:chOff x="7920" y="5540400"/>
            <a:chExt cx="1780920" cy="124272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7280" cy="1027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0880" cy="2026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5680" cy="648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400"/>
              <a:ext cx="831960" cy="591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2760" cy="1900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440"/>
              <a:ext cx="118800" cy="175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4560" cy="6055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6000" cy="274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6240" cy="1044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0920" cy="1233000"/>
              <a:chOff x="7920" y="5540400"/>
              <a:chExt cx="1780920" cy="12330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6520" cy="1119240"/>
                <a:chOff x="792000" y="5654160"/>
                <a:chExt cx="866520" cy="111924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696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4600"/>
                  <a:ext cx="180000" cy="208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1920" y="5654160"/>
                  <a:ext cx="66600" cy="18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3200" cy="39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5560" cy="23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720"/>
                <a:ext cx="168480" cy="37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0920" cy="1071360"/>
                <a:chOff x="7920" y="5540400"/>
                <a:chExt cx="1780920" cy="107136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840"/>
                  <a:ext cx="117000" cy="13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960"/>
                  <a:ext cx="133416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560"/>
                  <a:ext cx="125280" cy="262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08680" cy="9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480"/>
                  <a:ext cx="150480" cy="39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800"/>
                  <a:ext cx="307800" cy="21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5200" cy="33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7240" y="5723640"/>
                  <a:ext cx="387000" cy="13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79960" y="2116080"/>
            <a:ext cx="382320" cy="4304880"/>
            <a:chOff x="8679960" y="2116080"/>
            <a:chExt cx="382320" cy="4304880"/>
          </a:xfrm>
        </p:grpSpPr>
        <p:sp>
          <p:nvSpPr>
            <p:cNvPr id="36" name="Freeform 37"/>
            <p:cNvSpPr/>
            <p:nvPr/>
          </p:nvSpPr>
          <p:spPr>
            <a:xfrm flipH="1">
              <a:off x="8679600" y="4158000"/>
              <a:ext cx="322200" cy="22629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39720" y="2116080"/>
              <a:ext cx="322200" cy="2589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539040" y="-198360"/>
            <a:ext cx="3687480" cy="3531960"/>
            <a:chOff x="6539040" y="-198360"/>
            <a:chExt cx="3687480" cy="3531960"/>
          </a:xfrm>
        </p:grpSpPr>
        <p:grpSp>
          <p:nvGrpSpPr>
            <p:cNvPr id="39" name="Group 40"/>
            <p:cNvGrpSpPr/>
            <p:nvPr/>
          </p:nvGrpSpPr>
          <p:grpSpPr>
            <a:xfrm>
              <a:off x="6539040" y="-198360"/>
              <a:ext cx="3687480" cy="3531960"/>
              <a:chOff x="6539040" y="-198360"/>
              <a:chExt cx="3687480" cy="353196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800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539040" y="-198360"/>
                <a:ext cx="3687480" cy="3531960"/>
                <a:chOff x="6539040" y="-198360"/>
                <a:chExt cx="3687480" cy="353196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633800" y="-66240"/>
                  <a:ext cx="437400" cy="27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775640" y="786960"/>
                  <a:ext cx="772560" cy="9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281360" y="512280"/>
                  <a:ext cx="1453320" cy="1986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291440" y="81000"/>
                  <a:ext cx="2181960" cy="2972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59200" y="2313360"/>
                  <a:ext cx="483840" cy="266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60920" y="2055960"/>
                  <a:ext cx="519840" cy="31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669080" y="340200"/>
                  <a:ext cx="51984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587000" y="135720"/>
                  <a:ext cx="513360" cy="30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836640"/>
            <a:ext cx="7772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356000" y="4941720"/>
            <a:ext cx="442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6160" y="900000"/>
            <a:ext cx="71341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АРХИМЕДА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ЛАВАНИЕ ТЕЛ</a:t>
            </a: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8796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13500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755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а «Красных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«Научи яйцо плавать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6946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Команда «Зеленных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бейтесь, чтобы кусок пластилина плавал в вод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694560" y="450072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39640" y="620640"/>
            <a:ext cx="741708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4. Конкурс «Экспериме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3779640"/>
            <a:ext cx="795492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Определите плотность соленой вод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34718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«Один опыт я ставлю выше, 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чем тысячу мнений, 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рожденных только воображением».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 М. В. Ломон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584360" y="1312920"/>
            <a:ext cx="25560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400320"/>
            <a:ext cx="686916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5. Конкурс «Пореша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17720"/>
            <a:ext cx="769464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46040" y="1260360"/>
            <a:ext cx="76550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сейчас мы приступим к решению задач.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4" descr="file:///C:/Users/User/Desktop/web2.jpg"/>
          <p:cNvPicPr/>
          <p:nvPr/>
        </p:nvPicPr>
        <p:blipFill>
          <a:blip r:embed=""/>
          <a:stretch/>
        </p:blipFill>
        <p:spPr>
          <a:xfrm>
            <a:off x="3419640" y="3151080"/>
            <a:ext cx="4140000" cy="296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37861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4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&amp; 8 стр. 18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. 14 стр. 12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о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ределить выталкивающую силу, действующую на воздушный шарик , заполненный гелие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715000" y="4697280"/>
            <a:ext cx="270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6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omic Sans MS;Bold"/>
              </a:rPr>
              <a:t>ПОДСЧЕТ РЕЗУЛЬТАТОВ. САМООЦЕ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480000" y="360360"/>
            <a:ext cx="13338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720720" y="1800360"/>
          <a:ext cx="7559640" cy="3956040"/>
        </p:xfrm>
        <a:graphic>
          <a:graphicData uri="http://schemas.openxmlformats.org/drawingml/2006/table">
            <a:tbl>
              <a:tblPr/>
              <a:tblGrid>
                <a:gridCol w="2517840"/>
                <a:gridCol w="2519280"/>
                <a:gridCol w="252252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Ф.И. учен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Самооцен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Оценка групп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наполненной водой ванне спокойно полежать минут пять-десять, а затем подняться из воды, то тело почувствует резкое увеличение нашего ве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3959280" y="450072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20720" y="2700360"/>
            <a:ext cx="774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тность организмов, живущих в воде почти не отличается от плотности воды, поэтому прочные скелеты им не нужны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780000" y="4500720"/>
            <a:ext cx="2700000" cy="16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90480" y="-312840"/>
            <a:ext cx="686916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720720" y="1079640"/>
            <a:ext cx="755964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берегов Египта, водится удивительная рыба фагак. Приближение опасности заставляет фагака быстро заглатывать воду. При этом в пищеводе рыбы происходит бурное разложение продуктов питания с выделением значительного количества газов. В результате тело фагака сильно раздувается, и, в соответствии с законом Архимеда, он быстро всплывает на поверхность водоема. Здесь он плавает, повиснув вверх брюхом, пока выделившиеся в его организме газы не улетучатся. После этого сила тяжести опускает его на дно водоема, где он укрывается среди придонных водоросл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940360" y="5219640"/>
            <a:ext cx="23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"/>
          <p:cNvSpPr txBox="1"/>
          <p:nvPr/>
        </p:nvSpPr>
        <p:spPr>
          <a:xfrm>
            <a:off x="360360" y="27000"/>
            <a:ext cx="7921800" cy="64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всем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6048360" y="3887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358120" cy="67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воду опущен медный кубик массой 100 г и тонкая медная пластина массой 10 г. Одинакова ли выталкивающая сила в обоих случаях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сок мрамора весит столько, сколько весит медная тара. Что из них легче удержать в вод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 чашкам весов подвешены две гири равного веса: фарфоровая и железная. Нарушится ли равновесие весов, если гири опустить в сосуд с водо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е заключение можно сделать о величине архимедовой силы, проводя соответствующие опыты на Луне, где сила тяжести в шесть раз меньше, чем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йствует ли на искусственном спутнике Земли закон Паскаля и архимедова сил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 какого материала надо сделать гири, чтобы при точном взвешивании можно было не вводить поправки на потерю веса в воздух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476280"/>
            <a:ext cx="880596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-27000" y="539640"/>
            <a:ext cx="928044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a0020d"/>
                </a:solidFill>
                <a:latin typeface="Times New Roman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бщить и систематизировать знания учащихся о действии жидкостей и газов на погруженные в них тел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выяснить условия плавания тел, опираясь на понятия о выталкивающей силе и силе тяжести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мения объяснять причины появления выталкивающей силы, производить расчет и измерение её опытным путём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0360" y="179280"/>
          <a:ext cx="8642520" cy="6483600"/>
        </p:xfrm>
        <a:graphic>
          <a:graphicData uri="http://schemas.openxmlformats.org/drawingml/2006/table">
            <a:tbl>
              <a:tblPr/>
              <a:tblGrid>
                <a:gridCol w="1871640"/>
                <a:gridCol w="2152800"/>
                <a:gridCol w="2776320"/>
                <a:gridCol w="1841760"/>
              </a:tblGrid>
              <a:tr h="12844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Конкур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Количество баллов за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Набранное количество баллов командой за каждое зад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Общее количество баллов за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9516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. «Размин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 балл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. Те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 балла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. «Почемуч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 балла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4. «Эксперимен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 баллов за 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238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. «Порешае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 баллов за задач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99072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6. Дополнительные 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04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ile:///C:/Users/User/Desktop/gxoZstcDO4w.jpg"/>
          <p:cNvPicPr/>
          <p:nvPr/>
        </p:nvPicPr>
        <p:blipFill>
          <a:blip r:embed=""/>
          <a:stretch/>
        </p:blipFill>
        <p:spPr>
          <a:xfrm>
            <a:off x="5759280" y="1619280"/>
            <a:ext cx="3240360" cy="504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79280" y="1440000"/>
            <a:ext cx="89503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рхимед открыл зако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не только для корон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й путь – нелегкий пут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о человеку не сверну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Что», «почему» за ним следят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 шел впере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 не наза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т почему из года го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ука движется впере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962680" y="1714680"/>
            <a:ext cx="318132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8580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Конкурс «Разминк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53880" y="1565280"/>
            <a:ext cx="1446480" cy="185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>
            <a:lum contrast="36000"/>
          </a:blip>
          <a:srcRect l="0" t="3629" r="59634" b="0"/>
          <a:stretch/>
        </p:blipFill>
        <p:spPr>
          <a:xfrm>
            <a:off x="3419640" y="1619280"/>
            <a:ext cx="1618920" cy="19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>
            <a:lum contrast="36000"/>
          </a:blip>
          <a:srcRect l="52016" t="3629" r="0" b="54437"/>
          <a:stretch/>
        </p:blipFill>
        <p:spPr>
          <a:xfrm>
            <a:off x="1376280" y="4319640"/>
            <a:ext cx="20433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5076720" y="3500280"/>
            <a:ext cx="3854520" cy="3203640"/>
            <a:chOff x="5076720" y="3500280"/>
            <a:chExt cx="3854520" cy="3203640"/>
          </a:xfrm>
        </p:grpSpPr>
        <p:pic>
          <p:nvPicPr>
            <p:cNvPr id="107" name="Picture 6" descr=""/>
            <p:cNvPicPr/>
            <p:nvPr/>
          </p:nvPicPr>
          <p:blipFill>
            <a:blip r:embed="rId4"/>
            <a:stretch/>
          </p:blipFill>
          <p:spPr>
            <a:xfrm>
              <a:off x="5076720" y="3500280"/>
              <a:ext cx="385452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5076720" y="3500280"/>
              <a:ext cx="385452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240000" y="52704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Тес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440000" y="1800360"/>
            <a:ext cx="7019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А сейчас мы проверяем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Что умеем и что знаем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327640" y="4314960"/>
            <a:ext cx="38163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КА ТЕ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79640" y="1332000"/>
            <a:ext cx="1619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 - б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2 - г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3 -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4 - в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5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6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7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8 -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9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0 - 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851280" y="1905120"/>
            <a:ext cx="5111640" cy="4805280"/>
            <a:chOff x="3851280" y="1905120"/>
            <a:chExt cx="5111640" cy="4805280"/>
          </a:xfrm>
        </p:grpSpPr>
        <p:pic>
          <p:nvPicPr>
            <p:cNvPr id="116" name="Picture 5" descr=""/>
            <p:cNvPicPr/>
            <p:nvPr/>
          </p:nvPicPr>
          <p:blipFill>
            <a:blip r:embed="rId1"/>
            <a:stretch/>
          </p:blipFill>
          <p:spPr>
            <a:xfrm>
              <a:off x="3851280" y="1905120"/>
              <a:ext cx="5111640" cy="48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3851280" y="1905120"/>
              <a:ext cx="5111640" cy="48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178920"/>
            <a:ext cx="684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3. Конкурс «Почемуч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360" y="1260000"/>
            <a:ext cx="8020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Почему нельзя тушить горящий керосин, заливая его вод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3" descr="file:///C:/Users/User/Desktop/12813223.jpg"/>
          <p:cNvPicPr/>
          <p:nvPr/>
        </p:nvPicPr>
        <p:blipFill>
          <a:blip r:embed=""/>
          <a:stretch/>
        </p:blipFill>
        <p:spPr>
          <a:xfrm>
            <a:off x="1440000" y="2700360"/>
            <a:ext cx="7559640" cy="41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500120" y="2619360"/>
            <a:ext cx="70120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79280" y="179280"/>
            <a:ext cx="863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Показать на карте море в котором нельзя утонуть и объяснить почему?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85800" y="2133720"/>
            <a:ext cx="7696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3" descr="file:///C:/Users/User/Desktop/karta-izrailya-na-russkom-yazyke-s.jpg"/>
          <p:cNvPicPr/>
          <p:nvPr/>
        </p:nvPicPr>
        <p:blipFill>
          <a:blip r:embed=""/>
          <a:stretch/>
        </p:blipFill>
        <p:spPr>
          <a:xfrm>
            <a:off x="2340000" y="1260360"/>
            <a:ext cx="6659640" cy="559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857240" y="1285920"/>
            <a:ext cx="71517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39:29Z</dcterms:created>
  <dc:creator>Макс</dc:creator>
  <dc:description/>
  <dc:language>en-US</dc:language>
  <cp:lastModifiedBy>Admin</cp:lastModifiedBy>
  <dcterms:modified xsi:type="dcterms:W3CDTF">2016-04-02T04:30:28Z</dcterms:modified>
  <cp:revision>11</cp:revision>
  <dc:subject/>
  <dc:title>ЭНЕРГИЯ ДОБРЫХ ДЕЛ</dc:title>
</cp:coreProperties>
</file>